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597-23F3-493C-9EE1-CAD8E92B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588-812B-4B41-812B-7765DED8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B262B-57E8-4105-B042-463AD3D1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ECFC-D513-43C9-B22C-761EA1CF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EA222-71C9-4146-8616-C513D3E0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2DBF7-2570-4100-8CDD-8A6A863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A36A7-0BC7-4656-8BF3-F7CBE6FA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5D21B-73F2-488D-8A95-1260D452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D3B4F-AF1F-44C8-BA2A-6BFF0190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0489F-3BD8-4EB1-B1FE-A4885D46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5F6B3-E754-452A-9241-1EFBE161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60DC6-E182-4BDC-85C7-8BEA005B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D18-CC5F-444D-943E-DF3B258C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58D17-DEAF-4ECC-BEE8-510FC8C0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818AB-A05E-4326-96DA-2DF6BA93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2DDE3-F160-41FA-A82E-63ACFB81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93FCA-F5FC-43E9-B3E2-8B059A03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82C01-C08C-46E6-B39D-C60EB5B1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26CE0-5A02-41FD-A33E-9DE6EAF3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299B8-C234-43C9-AAB2-A50CD991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D6209-F260-4503-A94A-BC6AD927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FD5B6-A8B0-433F-B826-A37A005C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ED50E-4150-4315-8791-8A6E3049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D7A-2D47-4D1D-BA53-6AB84D37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84AF8-975A-46B1-B263-D95AB263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5FAA3-B648-4CFC-9352-006ED72F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98B55-8EF6-41EE-8F77-EB2816B8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93220-815E-408D-8254-3B3E8E0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C77C5-42AB-479D-8860-2775DFD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1F138-3C5C-494E-A388-702B9FE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C40C5-3500-4F99-971E-5B1E5144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B8D77-7B67-4D90-998C-4EC1229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84FDB-B8D8-4BA1-92CA-F0B9AA3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EEE37-EEAD-43B6-B189-C6CD0154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0BEB-21BE-4E7A-9A36-BD31D2B4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FF2C3-B94C-4CDA-B801-4E2A29D2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345CB-614A-4456-B8D3-0ED3C2F4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06D97-98DD-4B30-BACC-189C9441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9EABA-17AD-477C-902A-755B8D8E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96EAF-864E-468D-BD82-CFBEE3C2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B105B-A363-4D95-97B7-F9F29FF2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D746B-A3BD-4B8D-B965-8D13746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49A49-4330-473E-B9B8-BDB3945F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70D10-E7ED-4BAF-A3EB-D99EDD0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BCB43-DDB8-49C0-9E1F-F6242562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7283-9CC6-45C4-8735-60693BC3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1B77E-0F54-4D5B-A484-49CFB4C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3FAB9-086C-4B0C-9180-3105C6E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05F2F-E504-4430-B9D7-8C6F72F2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09CA0-30A0-4D2F-A8D9-D9144691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27DF6-147C-484B-8782-C7A2039E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8BA31-98C5-4B57-ACC8-DBF830C2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308B2-10E4-4E45-B263-C9C01A43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A43CC-862C-4501-BCCE-9ECD174E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FEB6F-9A92-4A88-AA8A-59BB3759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AAD7A-A634-446F-AA9E-D286B069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44F7-AA9E-408B-82BB-2AA1E799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FE779-FB02-42AF-9F3C-180C3B4D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2A2CA-34EB-4C1E-B2BF-90503B8F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7D5EA-2570-49FE-89BA-F4609E9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A48BE-4D58-4BE7-A3B7-5925CCA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65BC8-22BE-4EEE-A1B4-B802FEF2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F1E05-E4E8-4514-A96C-8B6BD0CF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86E41-A444-4D60-AB3A-E29FDD8C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D4679-3295-4BD6-B7D5-A678D87A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E9FE8-E9E8-4482-BF10-117117C9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D633F-5605-48CE-A649-2A781F4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9831-15F3-4664-A454-C0AF43FA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0ADEF-28C2-407F-96B4-4E3C7F1E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0A621-6B03-4F50-A6E2-A4911C03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2E12A-C108-4E20-B9B0-BB529703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7F574-8CC0-4E07-92D8-7216A25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05662-AA49-428D-B72A-CD76F6A9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88B1C-CAF8-4205-832D-6A79B24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06A5B-E6F4-4B71-B5FE-F9B7AF48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F686D-1C1F-45BC-98AB-4C7BE3F0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5E424-6759-4DE8-AFE9-BF9632EF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4308B-E6E9-4AA4-ABE7-611A420C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0618-B003-44E7-97F4-3BDB63E7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EAD1B-1E39-45E6-967B-44447FC0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E19F9-0692-4C0F-9CC8-BEAB0D3E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D8A83-8AB3-4CA2-A74C-A72E6E32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764F4-D4D1-4799-A91D-36563F38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FA0B2-3B31-4969-B2D9-3E5AB67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CE4ED-7B87-45F5-89EB-17DED1F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B563F-64F8-4141-8282-02210B0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8FB00-4C96-4A57-8CC6-00CABA2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DC6BB-0AD9-4E5C-B6E5-FDB699D3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149EA-1277-4E24-9F59-A8492D09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3D1B-1697-4ED9-A235-F31C9FD3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93838-64FC-4CC8-B8C4-E049623A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752BA-15EF-4B47-A7C5-A776BF55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1A471-BC90-40EB-83B4-970A3872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9C421-E0DC-4556-BA42-C07C682C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A90EF-C359-4CBE-9979-092475D7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839C3-AEF9-4C94-81EA-EC29ED46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552570-FD71-490C-B84F-46AA5449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C8F0C-125F-4A57-B7E1-B8DB9313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555AD-357E-485A-A990-98E6F91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0AD16-CD1A-4965-AADA-13D8BF39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3120-7182-490D-B445-9CBAEFDC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46404-0FFA-42B8-890A-0C300562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D0B91-50BC-4263-8D90-95638DCF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F5A27-E498-492C-8AE3-66DA46DD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90B2B-57F1-4D55-9564-6A65D31F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99EE6-B1EB-4DFA-9D17-3EBCE247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8F40E-24C9-42F6-A721-2556DC8C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58762-D37D-42EA-816C-127AB81A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E3E90-D5E6-40FB-8681-8A0B8245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EB60E-A00E-455A-A714-CC6C5722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EBDD6-6691-4782-B549-1A27BE96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90E-2316-40C1-9F2E-944B14F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3049-DE3F-4D9C-8685-6AB3C2B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5AA05-D082-46E6-AC25-0785105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26BA9-67E9-421E-AE51-DA81E348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9B431-F158-43F8-B667-58AD6135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E745B-8BE7-4AFE-975C-659D0A2E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91EF4-9A01-4309-BAFA-5C564D24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E8209-4904-46A6-8CFB-029AEDDC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0E7200-704F-43E2-8C54-5949C31A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2CCFD-4D5C-4814-8038-9CDF3B1C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58641-F1A6-44A0-AF3D-2F573494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75D5A-CF22-4EBC-85EA-5E6516E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43ED-7D5E-49D5-B21E-54B75CFD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96897-21D0-446D-8A80-4AF94EB5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74518-2931-407E-8FA3-DA60CBD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23050-10CA-4879-8D8E-2E790313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D8E71-D6F6-4152-B691-3C82AA47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DA048-02B3-4514-9BE2-AC5DFE23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F1B2F-B746-4235-8D23-190CDAFA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F1CA1-75B8-4F27-833E-67F7F6FB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C3EA7-4A36-477E-B05B-2FD36AF2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5FD82-5D48-4724-8DFB-A60F1455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143EC3-379A-4275-AE3E-A5A5D4E2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57C4-BE64-48AA-B763-8CD5CA49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DA556-8FF2-4E7C-BED3-117A577B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5315D-8FA5-4D77-B4E7-85FAAD2F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802F2-096C-448F-B5CB-C5B14151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B885F-42A0-4FEE-B5D9-4300B55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99D8D0-0A2F-469B-816A-51657265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BD297-329D-46AC-8FE3-548DF24F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F9A5FF-E0DA-4584-9C3D-1AFB9798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5AFDC-6F30-45D6-B28B-EA81369D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FAD4D-1E7D-414C-874A-EC51E02C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18445-059E-48F9-A994-6DAD0489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D49F-F5E3-49DA-A38F-F778D47A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9E0E18-3ECE-4270-B718-9EDCF2CA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15483-5B81-456D-9432-D887EBAC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C0844-3E69-450E-AD7A-A6AE2CC5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53E33-2F82-4239-8B30-34E8A52B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E404F-9E7E-4F29-894A-535EF8D6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B9A6C-DFB9-45E2-977D-F6E9DD77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F7D9E-1E81-4E1A-9566-C5598CB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D8CD7-5F55-4CC8-83E1-49204286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6BFE7-D1B8-44E7-A3D2-87871E14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4AE3F-5C1F-4E37-BA05-2383A41D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490E-AE2A-4A16-BC25-FF62D7C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A0CBA-7496-4B06-985F-F13951B2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589EE-002E-4253-BB30-DD8B2386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C258D1-35C4-40F6-A7C4-6B8A3FC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E406D-2F9D-494C-BAEC-374F03CA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4AA86B-4BF2-4282-9DFC-2C3E90C3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C509E-2E29-4E71-AF82-C436A219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620537-3F9C-462E-8D80-4B72E4E8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2AE25-2583-487E-8A03-4F87422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67BB3A-1887-4C2F-B2EB-0BFFDA51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4E7A3-A59E-43A0-9BD5-7A532608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7C40CB-9633-4E67-8076-74D2C193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3FB08-077F-4AE3-A66F-3B464F75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28DC5-9B9F-4871-8BA2-1AAB72DF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DB2-CE25-4163-82B4-7AD95842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7E6D-6E8B-400D-A5F5-B35CB347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D667B-BCA9-42A9-AB0D-4E76C159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E605-A400-46D5-8D08-4590806B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F07-670B-4DF0-A058-B7D9C982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7F3B-2B09-4F31-AB5F-D2FAB1F1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FEB4-DBD7-4B46-8021-28CF438F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BC83-AFC2-4354-8F74-AB5A755F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2AA6-5D17-48EF-866B-3845230A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AEF6-F883-4044-9A90-E643AFA2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BF84-2821-4495-A5EE-A18B21A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AB6D-6E81-4E4C-B42D-B43BF694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91E2-4D5D-4F6A-9AC2-89D359C9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6648-7968-45B3-B726-FBE6B9F2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5A00-3FF4-4B2B-9D71-7B428E3A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884-E208-4D77-A6E5-6BFB919C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DB49-FDB5-4A75-B47E-B46AD7FB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C1BA-C76B-4FCF-AA4D-18A59310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1F4F-E59E-4AE4-99A4-27D3B74B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F711-6257-4FC6-B2E1-40894A53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4598-7E6A-4850-AC6D-BE87CE8D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041F-2A48-4EC3-A086-B8AD376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51920-5748-4354-BBB4-0C8B69C6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E12E-42F6-4685-9C2B-C8D6A783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32932-143C-4EBE-9607-815894F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4640-AD19-428C-B703-47569874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8F2-2770-4F44-A68C-811F41AD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0E31E-AC12-4461-9982-CB90A745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A7720-AB1D-415D-89FA-B3AFF3E5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32B41-FF03-41B5-BE96-53F444ED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C144-8BF3-4C59-AB48-454F6CF0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FAE19-0A58-4DAE-A7DA-55DB2AEE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B5244-5FC0-42ED-B177-5DA401EA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01EFB-5F84-458A-B707-4A86D334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887C9-597B-4768-910D-A6732C8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AB4E-46F5-4AF6-AD67-22C92A00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2ADC2-3F44-49B6-94B8-23236ECC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BE3-2A14-4787-BC94-C428ACB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E4BFE-9DBE-4C55-A817-A6A436E4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FC67-939A-4429-A54E-0E4260A8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7459C-1A98-4DD7-94FB-D7AD2109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F507-A9D1-40A8-B6CB-76C62694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2B8B7-E4D1-4367-81D3-6B09B926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DF70-D1D0-48DB-8F95-4950DB4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4C08E-49AA-4364-B5BB-7A649923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E0492-4804-4C4E-ACBD-33C80F8F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9660-116D-4B13-AD5E-C4107392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EB609-F80D-4990-8AD6-C4948239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491-CD22-4B91-BAB5-9E16B4D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0431C-B893-45A8-B8EE-D58FC75F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6D063-760F-437C-A92E-B10D8CD7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B7EE6-1F23-4FDA-A92B-AE75FDD1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CDD71-FF5C-460E-9EC4-2F09AED0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AB712-D3BB-426B-B8C9-F81D0F74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7920-CA24-4920-A227-12B37801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AB49F-1DA5-45B0-B670-38579C7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483F3-B287-4F84-999C-EF384191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1BE6-D88C-4916-B76A-22A1B2D2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E570-A40F-4216-AAF5-38B1C5F3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EC4-81DE-474F-8095-8B87A815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23645-92B5-4C0D-AF3D-759CAF74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99A75-0408-4E4D-BFF3-988569D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E1351-3DED-483D-95A2-21164D8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EE26F-7A01-4A42-85FC-CA19D3F6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53CF-1A6F-4D18-800E-A2E33A58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69DA9-73C7-45C3-A873-9341496A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EF11-B630-4028-9FE0-A0AC57AB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D1614-1121-4D7E-8173-1BD374AA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0E968-2E13-48B2-B6FA-4A71F045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81492-EFF3-43D1-A8A8-BD0A5E6B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E676-02CA-4AF8-9908-B8DAC0BB58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87D7-B6A5-42BE-9699-65EED5EB3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763-44B9-4A77-A8DB-0151CA0D3D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018A-EEE8-4E84-A037-E4DAE96BCA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0D26-8580-49E2-A90E-C329295111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8AF1-1CA3-48EE-88AC-29F4BC447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ED8C-690A-41BD-B7C4-06CEA45713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8DFE-1FCD-4326-AB51-2E395E136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8BBB-E9D1-4DC8-AC44-274367A2A7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F6D-3E38-4324-90A7-BADC36336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A4C1-C4D3-4AB6-8913-10B420DA44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C72-BEF0-4D59-8422-AB81BD21A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0F4A-0670-46A6-B2BC-CA78B179FC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BDC4-4A1A-48B1-9C40-FB13E034A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A7A1-2D16-42D5-963C-D7985C41FB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D403-0C2B-4072-B910-20B1B49AE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2034-9EB7-4117-974E-3B9C60F6C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FEA0-9FCA-4899-B1D0-422F903F53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AEB6-D5D4-4473-83FA-5D0F20531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C3A0-DCDA-4B9F-96AE-2E3DFB3278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6EC0-866A-4AA4-891A-21908C27E2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EF24-C518-4B28-8734-A760039E7E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DDB3-3919-40F3-A5EB-AF2F4F4F5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F48B-BCC6-470D-BBF6-C9AAC76F3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34E1-41B9-40B6-8EE2-C67E7D5ED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B706-989D-4F38-914F-0DE69F2DD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14F-E4BA-4F4B-A71C-09083D318A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120B-2067-421C-B992-D001BEEBF4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1322-FC7B-42D0-BD1C-BE01B3215C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5EA4-BA1F-4866-BA01-A70DC9B368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B9B1-E21D-41CF-A9BF-814A191EE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FF23-BBEE-4503-B2A4-B17D29F721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8AAA-E950-40B7-83F9-7AB0E3FCE2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B224-2991-43A5-B8D0-17906964F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15A9-A4CE-4834-A5E9-39C1CABBD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62EA-A93C-462A-BC80-F6E1A4F2B5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0269-A974-4B37-854C-540B66BAE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8C0-926E-41CD-B534-C516D0385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BC6-4334-4BCC-BCFE-9AED5EDEF0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757600" y="1989000"/>
            <a:ext cx="3628800" cy="97164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1324080" y="3301920"/>
            <a:ext cx="64958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3313" descr=""/>
          <p:cNvPicPr/>
          <p:nvPr/>
        </p:nvPicPr>
        <p:blipFill>
          <a:blip r:embed="rId1"/>
          <a:stretch/>
        </p:blipFill>
        <p:spPr>
          <a:xfrm>
            <a:off x="409680" y="1347840"/>
            <a:ext cx="8324640" cy="41623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042920" y="3184560"/>
            <a:ext cx="748980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755640" y="4998960"/>
            <a:ext cx="74898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4337" descr=""/>
          <p:cNvPicPr/>
          <p:nvPr/>
        </p:nvPicPr>
        <p:blipFill>
          <a:blip r:embed="rId1"/>
          <a:stretch/>
        </p:blipFill>
        <p:spPr>
          <a:xfrm>
            <a:off x="433440" y="2633760"/>
            <a:ext cx="8277120" cy="15904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6551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85680" y="790560"/>
            <a:ext cx="8972640" cy="5276880"/>
          </a:xfrm>
          <a:prstGeom prst="rect">
            <a:avLst/>
          </a:prstGeom>
          <a:ln w="0">
            <a:noFill/>
          </a:ln>
        </p:spPr>
      </p:pic>
      <p:sp>
        <p:nvSpPr>
          <p:cNvPr id="1026" name="直接连接符 22530"/>
          <p:cNvSpPr/>
          <p:nvPr/>
        </p:nvSpPr>
        <p:spPr>
          <a:xfrm>
            <a:off x="3606840" y="2205000"/>
            <a:ext cx="3097080" cy="863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22531"/>
          <p:cNvSpPr/>
          <p:nvPr/>
        </p:nvSpPr>
        <p:spPr>
          <a:xfrm flipV="1">
            <a:off x="4067280" y="2276280"/>
            <a:ext cx="2592360" cy="865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直接连接符 22532"/>
          <p:cNvSpPr/>
          <p:nvPr/>
        </p:nvSpPr>
        <p:spPr>
          <a:xfrm>
            <a:off x="2050920" y="4005360"/>
            <a:ext cx="460872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22533"/>
          <p:cNvSpPr/>
          <p:nvPr/>
        </p:nvSpPr>
        <p:spPr>
          <a:xfrm>
            <a:off x="2036880" y="4869000"/>
            <a:ext cx="460836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22534"/>
          <p:cNvSpPr/>
          <p:nvPr/>
        </p:nvSpPr>
        <p:spPr>
          <a:xfrm flipV="1">
            <a:off x="2411280" y="4005000"/>
            <a:ext cx="4248360" cy="1657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252360" y="922320"/>
            <a:ext cx="8639280" cy="5315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273320" y="206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076720" y="2060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332000" y="422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5234040" y="4264200"/>
            <a:ext cx="50472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20481" descr=""/>
          <p:cNvPicPr/>
          <p:nvPr/>
        </p:nvPicPr>
        <p:blipFill>
          <a:blip r:embed="rId1"/>
          <a:stretch/>
        </p:blipFill>
        <p:spPr>
          <a:xfrm>
            <a:off x="723960" y="1438200"/>
            <a:ext cx="76960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8193" descr=""/>
          <p:cNvPicPr/>
          <p:nvPr/>
        </p:nvPicPr>
        <p:blipFill>
          <a:blip r:embed="rId1"/>
          <a:stretch/>
        </p:blipFill>
        <p:spPr>
          <a:xfrm>
            <a:off x="81000" y="852480"/>
            <a:ext cx="8982000" cy="5153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50472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7" name="组合 9219"/>
          <p:cNvGrpSpPr/>
          <p:nvPr/>
        </p:nvGrpSpPr>
        <p:grpSpPr>
          <a:xfrm>
            <a:off x="471600" y="907920"/>
            <a:ext cx="8200800" cy="5761080"/>
            <a:chOff x="471600" y="907920"/>
            <a:chExt cx="8200800" cy="5761080"/>
          </a:xfrm>
        </p:grpSpPr>
        <p:pic>
          <p:nvPicPr>
            <p:cNvPr id="1048" name="图片 9217" descr=""/>
            <p:cNvPicPr/>
            <p:nvPr/>
          </p:nvPicPr>
          <p:blipFill>
            <a:blip r:embed="rId1"/>
            <a:stretch/>
          </p:blipFill>
          <p:spPr>
            <a:xfrm>
              <a:off x="471600" y="907920"/>
              <a:ext cx="8200800" cy="40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图片 9218" descr=""/>
            <p:cNvPicPr/>
            <p:nvPr/>
          </p:nvPicPr>
          <p:blipFill>
            <a:blip r:embed="rId2"/>
            <a:stretch/>
          </p:blipFill>
          <p:spPr>
            <a:xfrm>
              <a:off x="1979640" y="5154480"/>
              <a:ext cx="5371920" cy="151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00000" y="9223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0241" descr=""/>
          <p:cNvPicPr/>
          <p:nvPr/>
        </p:nvPicPr>
        <p:blipFill>
          <a:blip r:embed="rId1"/>
          <a:stretch/>
        </p:blipFill>
        <p:spPr>
          <a:xfrm>
            <a:off x="642960" y="804960"/>
            <a:ext cx="7858080" cy="52480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2289" descr=""/>
          <p:cNvPicPr/>
          <p:nvPr/>
        </p:nvPicPr>
        <p:blipFill>
          <a:blip r:embed="rId1"/>
          <a:stretch/>
        </p:blipFill>
        <p:spPr>
          <a:xfrm>
            <a:off x="190440" y="903240"/>
            <a:ext cx="8763120" cy="5334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332000" y="4797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332000" y="566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332000" y="2924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332000" y="20178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1265" descr=""/>
          <p:cNvPicPr/>
          <p:nvPr/>
        </p:nvPicPr>
        <p:blipFill>
          <a:blip r:embed="rId1"/>
          <a:stretch/>
        </p:blipFill>
        <p:spPr>
          <a:xfrm>
            <a:off x="128520" y="1200240"/>
            <a:ext cx="8886960" cy="44575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41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1403280" y="5056200"/>
            <a:ext cx="6193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8:4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